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coin.wav" ContentType="audio/x-wav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4250-C96E-4A41-9C4A-B425C697C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895-440F-408A-AA30-228686AC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3AA-A8DA-4C67-90E8-9164196E6C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1333-05A2-4121-9AD6-EC2A0DB787FE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95A5-9970-4F73-A76B-D6FC5917F869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F3B-0D10-4EB0-A34D-D993F8D7F8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6FF-5F80-4386-A96E-AC853983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92C-9112-4E1B-8C06-86BA3EE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20716-A9FC-4725-8C86-EB83C9F0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C78D0-DEC3-4720-8068-27375A0E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E355F-EA40-4462-8E88-AFB6268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9FF7-4073-4BE0-A4B3-83D2396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094C0-CF9D-4BF7-B020-F88779B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FDBC3-B898-4F0E-BA3E-AB0FB92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22278-A7E0-486D-94BD-91F02A2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AC5A7-CB3C-4DA7-A34F-C3E3D3BE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4BB24-F18F-4768-A869-6B792AC9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CB7DB-F4C2-4FA9-B9F8-FD0429A4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E1D-A2A5-4592-91BE-8004897E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EF698-75EB-4546-B393-79DC2B36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F62BA-CCB8-4D61-93E7-4A61AB0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82274-D205-48C4-BE6C-B8400B8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EF28D-C7B7-4023-A3FA-B2F7C2B8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1257F-FF23-4716-8766-B1EE76B0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B753-3B7C-4895-B2B9-AF891BD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99E49-01E1-4520-A44F-4EBC5FE7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B5EF1-39FE-4B2E-AA02-DEB7E37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A75AA-F5C9-43AC-9624-2F90220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81B96-ECD8-443E-9A04-82EC90A0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810-308F-4058-9057-A9DFE53F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43B3B-B4E3-465C-B43D-42EB9791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021B-9067-4F8C-BE73-89EC040C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D088-286D-41A5-B643-1CDF0974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BE39A8-8C2F-4764-9928-281C8D50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EF9550-BD33-4865-8E44-C29F2E74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4ADDF7-AC59-4997-8FB4-E801F692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1A1FEE-4767-4A6E-9A2A-F57ECC01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2E783A-5D60-4D65-8BF8-26F5751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4FE9-34A9-4D79-84FB-12497E1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936C8B-3F00-47E6-9DF1-441FF501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775FD2-486B-4122-88D0-A97E2E9A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2517E3-232C-425E-8024-E3189E5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5EA764-3632-4FB0-8AE3-EF5B88D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21BD58-B96B-4122-A19A-8596004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DF9F01-4EFC-4E8D-A336-3FC31A08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559562-D256-497B-B07A-81DD9C7F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0A4C2A-096B-4DAD-BC14-857CF011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F2D1A3-2A1B-4CB2-A47D-E5FC7EBD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636499-38F9-4934-BC58-7C78749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7B8C-2653-41DD-83E6-EB2C95FA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1C211D-9B08-4107-9FE6-3B4D17BA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F6DA44-860D-4631-89C6-03AE445A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2750A2-FA72-457C-A519-8BEEF714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6FDA3E-D445-451E-8704-22FE155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664E5F-5444-4165-BCF8-AFF31CE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DC6FBF-777C-42C0-915C-90663C6C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5169B7-C168-4D31-80C9-D620746D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47472B-BDDD-48E7-96E9-37B08F26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5B6044-BBFC-4C19-860E-D73FCECB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8A7AA6-D386-4ECB-98CD-8E21F1D5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50DD-B691-4B03-91E1-7F4CCEE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E864C8-F889-4208-83BD-D39EEBAB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6FC323-F523-4BDF-A5B7-55947B7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9B8EB5-F5DA-441F-BF0F-0368902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E94B6F-D6D1-4E50-8BA3-130C7E59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FA7472-ED2A-4645-9394-30D89AB5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3DA8BF-FCBC-4C0D-BBA9-037EB35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14A43C-78E8-4003-B047-75C90538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4084F0-DD42-4B76-994D-F66CAE7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E97F8D-3C56-43BF-AC87-20D99FA8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7289A9-6DD9-4F27-B644-F20DA64C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BF44-1155-4E25-8292-C6F1645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273CDB-2EDB-4295-9926-2455C9DA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BF714C-77BA-44C2-A256-72C9A4D2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9C09EF-51F1-4F98-90AF-A3E653C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5A7E8F-3825-46F1-92C5-F0B64719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14C92F-C909-468B-9EB2-69663024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927328-F4F8-47AE-B56D-9B3EB2F3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CA99BA-879E-44E8-94B5-7B3446AD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6F813E-68F5-4A60-A184-44B84DE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2FD22C-32BD-42B1-B9F9-5DB6921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B80959-13FE-44FA-B443-8F2AAD6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D6E0-5F77-4E61-8219-30C8D5A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259CA8-CF97-4F07-8ADC-DCC2744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BA956B-D6C0-4C2D-ACB6-F8D027C7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3E24E9-FE6C-434A-8FFC-BF132AFB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51E-947A-43D2-B523-D43FD4F6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56E-4AAD-43C6-B9F9-9B67200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BB74-7B08-49CF-AB7C-1A2BB0A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74C4-DCC8-427D-98FB-F00CE14E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860C-F173-4836-917F-BCCB0421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3ACB-D79D-4931-AC1A-3708CABA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D2DD-34F6-480D-9F3C-1A1B5DB8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C2B5-FDA8-42FC-8AEB-07D1A3A5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08EC-A027-4DCB-98E1-79AE23F0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06B0-9784-4F4B-96F5-8F2864E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FE2F-7116-4212-BC5A-0AC3D31F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64E-C3DB-4673-89D0-7932F3EE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28B4-0BC5-4D0A-9A87-78C31092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927C-06BF-4733-B2F2-CBBBE28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451F-5B67-45BA-A981-9F0D66C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254B-96D9-48BA-A3FA-4D454A5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5CFC-DC3F-4B36-A32D-E760A8C5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3AE5-D6CF-4B05-9120-90A72611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CC50-B308-460A-907F-5FC9450B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A988-6965-46B6-A678-B44C6815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D6BE-4041-4843-BFCA-F18A58DF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DA30-EF38-4348-828F-638AF990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7AB-400C-4A61-98AD-EA2D26E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C1A8-B3E3-4DDB-885C-280F42B3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29F5-F0C6-4D51-9053-B01D43E0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C88D-6811-4C50-9FCA-09856DB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06A6-64DE-441F-93C1-C3C01C8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CE15-B910-4170-9879-88647F7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0C4A-E32D-47A7-BD4F-71C4E22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B913-A315-40BF-885F-2D556952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67AA-96A5-4769-BEDE-8D9B32FF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A194-BA44-42D3-826D-D13F5C9E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6E01-9AB7-45F0-A8CC-4332358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B16-9A97-4992-9EDF-C342803B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726A-426C-475F-87D5-FB772F48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D6CD-DBDE-43A2-ABE1-A46875D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6455D-6355-43A4-878F-90438389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DA5F-CCEB-4A45-A9A2-DC77A8DA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0450-22B4-4DEA-B95E-0D0F4B7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9287-DDFD-476C-AB61-E13AD39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1609-C971-4BF8-8D52-9F1C247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98DDD-CE37-4C45-A4A3-86C1779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DA06-2962-4A37-913D-9C8A357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F1E7-D855-442A-9832-F9410EAF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68D-B0E4-408F-8AF2-4FDBFFC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066F-F6D6-45A9-A963-534A557A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DD52-E1BD-41D0-81AF-AD0BEE3F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56C4-C9A8-43E5-9082-D3D91FFB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F3CD-A927-4F6D-BFAC-5C7C444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34BD-AAE9-4E7E-BC26-0CDCABB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49FA-E8A9-4922-B084-3BBCE5D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E746-284A-422B-9FBD-D3CBFE83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FC8D-CF65-4D1F-8394-072D013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3753-8700-41D7-A657-000651C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B398C-CAB2-49F0-9B10-2DF85D0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C56-D475-4430-933A-54B214B2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7BCE-6046-41CA-9725-D12A2ADB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A2D71-0D0B-49F5-8414-16162CCC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EC06-B690-46CF-94D7-4D57DCAC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454A6-48DE-422A-9E64-5FBBB48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1306-6AA3-41EE-96C5-5E643699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A85A4-8863-4663-928A-6CD0CCA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E79E-2A2C-431C-8869-199CE30A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71027-9174-425B-9723-338EF63E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C7569-8A96-4F59-A84B-0F3934B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4CFA-14C4-4A0D-87F1-7B6DCC6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9B2-1634-4416-8E46-D8208C2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76DA-AF23-4288-9C99-CCEBC2F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D9445-056B-4597-BE5F-F092827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67C8-604B-4B85-B61B-EE6BED2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72AA-C768-4A8B-9B9C-23022C9E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802F-34C0-44B7-9006-52E43A70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43A89-45B6-4EEE-909A-B9D49F7B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0B80-C537-4947-9F90-A5AC2CA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262A-F12F-4589-893C-EEA29D3F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944B-6989-4075-9D29-17F1BC5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BB10-321A-45F1-BB8F-82A4C64B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EA3-421D-476F-AF20-994B002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1F599-7E7B-4441-B9D7-30DC1D3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4234-BA07-4E4D-8939-D986F08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58DD-24A5-4B12-839B-C2B1213E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63DF8-36AF-4B8B-97CD-35E8DF25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4B8B-6630-452F-9C91-3054A3B2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7319B-7BCE-4328-A29A-690BF586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56B0B-00DF-4682-8C8C-23EBBD2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5F9A-E06C-4463-8EF7-7701165C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22FB5-A026-4E82-8946-C243859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EBD3-B75E-4A84-AF3B-1211871C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E163-3550-44A1-A5CF-482A61F36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2B0-256D-48BA-A972-26221BEE7F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32C-0267-4D10-A4B1-15779652F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D8B-83FF-4DDC-B0EC-9281BD40B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4B88-7A44-4BAB-BC15-40301F7914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960C-D6EC-4FC8-8281-8DC0CDC72A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EAA2-1990-43A4-8B5B-B46DF7B485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8635-A8A0-4A6D-AD56-FD8DA63440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14DC-FC2A-453A-9BF3-605F5318BA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EFD-338D-4E77-839B-A357FCBF1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259-6FE4-499A-9838-C2120E279F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C1D-3AD7-4CF7-8C53-26A5E8105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EC82-A1A9-4065-BA3E-5E406CA28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F76-3DA8-45AF-96EB-A2ADB64C9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auline est ma meilleure amie. Je parle tous les jours à Pauline et souvent je pose beaucoup de questions à Pauline. Je ne mens jamais à Pauline. Souvent le weekend, je rends visite à Pauline et si je ne rends pas visite à Pauline, je téléphone à Pauline tout le temp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our son anniversaire, j’achète un cadeau à Pauline et j’offre ce cadeau à Paulin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i, il y a beaucoup de répétitions du même nom « Pauline »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éviter ces répétitions, on va utiliser u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NOM PERSONNEL 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Remplace un nom de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ersonne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introduit par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or (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our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4572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352680" y="4267080"/>
            <a:ext cx="26290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6002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+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0" y="48769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6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962520" y="2209680"/>
            <a:ext cx="2628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142640" y="1752120"/>
            <a:ext cx="24382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e parle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p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2057400" y="304812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4038480" y="17524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a mè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56840" y="1828440"/>
            <a:ext cx="38098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’ai téléphoné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 ai téléphon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175248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3657600" y="18288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Emilie et Thom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2057400" y="380880"/>
            <a:ext cx="5943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Tahoma"/>
              </a:rPr>
              <a:t>Pronoms Personnels</a:t>
            </a: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objet indir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1752480" y="281952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705720" y="758880"/>
            <a:ext cx="19238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Rectangle 8"/>
          <p:cNvSpPr/>
          <p:nvPr/>
        </p:nvSpPr>
        <p:spPr>
          <a:xfrm>
            <a:off x="609480" y="2514600"/>
            <a:ext cx="3810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mand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nn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voy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tr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ler 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2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858000" y="106668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4"/>
          <p:cNvSpPr/>
          <p:nvPr/>
        </p:nvSpPr>
        <p:spPr>
          <a:xfrm>
            <a:off x="3962520" y="2514600"/>
            <a:ext cx="344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give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end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how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peak to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380880" y="2819520"/>
            <a:ext cx="4648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fri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er une question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êt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éléphoner à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6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7219800" y="137160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4724280" y="2819520"/>
            <a:ext cx="34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o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 a ques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le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phone, to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0880" y="1218960"/>
            <a:ext cx="7850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es pronoms d’objet indirec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deviennen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devant un verbe dont la première lettre est une voyelle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A485CE70-58C9-438B-98BA-5AB1478C5E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1601640" y="3125880"/>
            <a:ext cx="533412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ronoms personnels remplacent un nom de personne ou de chose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orme du pronom personnel est déterminée par la fonction du nom qu’il remplace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4" name="Picture 5" descr="j0149481"/>
          <p:cNvPicPr/>
          <p:nvPr/>
        </p:nvPicPr>
        <p:blipFill>
          <a:blip r:embed="rId2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MPj03142650000[1]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8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85440" y="1295280"/>
            <a:ext cx="8077320" cy="281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LUI/LEUR se placent devant le verbe conjugué a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résent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 o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assé composé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2"/>
          <a:stretch/>
        </p:blipFill>
        <p:spPr>
          <a:xfrm>
            <a:off x="1676520" y="4724280"/>
            <a:ext cx="533376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440" y="22856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LUI/LEUR sont placés avant le verbe conjugué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à l’infinitif.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va offrir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à ses sœurs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va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leu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offri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66A5BD0B-5EC3-444A-A03C-29CB292B1F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9" name="Picture 1" descr=""/>
          <p:cNvPicPr/>
          <p:nvPr/>
        </p:nvPicPr>
        <p:blipFill>
          <a:blip r:embed="rId2"/>
          <a:stretch/>
        </p:blipFill>
        <p:spPr>
          <a:xfrm>
            <a:off x="55260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2"/>
          <p:cNvSpPr/>
          <p:nvPr/>
        </p:nvSpPr>
        <p:spPr>
          <a:xfrm>
            <a:off x="838080" y="83808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létez les phrases avec le pronom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’objet indirect approprié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838080" y="2590920"/>
          <a:ext cx="7621560" cy="3641760"/>
        </p:xfrm>
        <a:graphic>
          <a:graphicData uri="http://schemas.openxmlformats.org/drawingml/2006/table">
            <a:tbl>
              <a:tblPr/>
              <a:tblGrid>
                <a:gridCol w="7621560"/>
              </a:tblGrid>
              <a:tr h="364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u ________ montres tes photos?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uc, je ____ donne ma nouvelle adress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ou, fa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Vous _______ posez de bonnes question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Nous ____   avons demandé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n ______ achète une nouvelle rob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ou, for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Ses parents ________ ont acheté un tailleur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Je vais ________ téléphoner à dix heure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Elle va ________ prêter sa jup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2" name="Text Box 5"/>
          <p:cNvSpPr/>
          <p:nvPr/>
        </p:nvSpPr>
        <p:spPr>
          <a:xfrm>
            <a:off x="1828800" y="2571840"/>
            <a:ext cx="76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n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057400" y="304812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2057400" y="342900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2209680" y="563868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523880" y="42670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v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743200" y="47242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209680" y="51814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1905120" y="3962520"/>
            <a:ext cx="76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eu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e3"/>
                </a:solidFill>
                <a:latin typeface="Calibri"/>
              </a:rPr>
              <a:t>Les Pronoms 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2514600" y="2362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A F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nto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joue de la guit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2438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nom sujet :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762120" y="3657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im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re lyc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12952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i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/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S/EL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3276360" y="11430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09480" y="1828800"/>
            <a:ext cx="8534520" cy="4480920"/>
          </a:xfrm>
          <a:prstGeom prst="rect">
            <a:avLst/>
          </a:prstGeom>
          <a:noFill/>
          <a:ln w="9360">
            <a:solidFill>
              <a:srgbClr val="d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est sujet du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to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609480" y="1676520"/>
            <a:ext cx="77724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om est introduit par un article défini, un adjectif possessif ou démonstrat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/mon/ce pr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8" descr="j0212957"/>
          <p:cNvPicPr/>
          <p:nvPr/>
        </p:nvPicPr>
        <p:blipFill>
          <a:blip r:embed="rId2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9"/>
          <p:cNvSpPr/>
          <p:nvPr/>
        </p:nvSpPr>
        <p:spPr>
          <a:xfrm>
            <a:off x="3124080" y="5638680"/>
            <a:ext cx="6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07258E-006 L -0.00851 0.08992 E">
                                      <p:cBhvr>
                                        <p:cTn id="72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09480" y="16765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a nouvelle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212148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Picture 8" descr="j0212957"/>
          <p:cNvPicPr/>
          <p:nvPr/>
        </p:nvPicPr>
        <p:blipFill>
          <a:blip r:embed="rId2"/>
          <a:stretch/>
        </p:blipFill>
        <p:spPr>
          <a:xfrm>
            <a:off x="4419720" y="44956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738E-006 L -0.00191 0.07999 E">
                                      <p:cBhvr>
                                        <p:cTn id="90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1447920" y="243828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- 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838080" y="19051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lacent devant le verbe conjugu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’ad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 livre de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1744920" y="3505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ad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3124080" y="3505320"/>
            <a:ext cx="36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1358640" y="4267080"/>
            <a:ext cx="76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vons adoré ces vac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533520" y="48006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vons adoré</a:t>
            </a:r>
            <a:r>
              <a:rPr b="0" lang="en-US" sz="3200" spc="-1" strike="noStrike">
                <a:solidFill>
                  <a:srgbClr val="d2d2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17856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7:05:15Z</dcterms:created>
  <dc:creator>Mr. Smith</dc:creator>
  <dc:description/>
  <dc:language>en-US</dc:language>
  <cp:lastModifiedBy>Viviane Grebert</cp:lastModifiedBy>
  <dcterms:modified xsi:type="dcterms:W3CDTF">2011-11-26T18:21:42Z</dcterms:modified>
  <cp:revision>105</cp:revision>
  <dc:subject/>
  <dc:title>Allez, viens! – Level 2</dc:title>
</cp:coreProperties>
</file>